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larm_1.wav" ContentType="audio/x-wav"/>
  <Override PartName="/ppt/media/CLICKER(1).WAV" ContentType="audio/x-wav"/>
  <Override PartName="/ppt/media/CNNTONE.WAV" ContentType="audio/x-wav"/>
  <Override PartName="/ppt/media/image2.wmf" ContentType="image/x-wmf"/>
  <Override PartName="/ppt/media/image1.wmf" ContentType="image/x-wmf"/>
  <Override PartName="/ppt/media/CHEEPCHP.WAV" ContentType="audio/x-wav"/>
  <Override PartName="/ppt/media/image5.wmf" ContentType="image/x-wmf"/>
  <Override PartName="/ppt/media/image3.wmf" ContentType="image/x-wmf"/>
  <Override PartName="/ppt/media/image4.wmf" ContentType="image/x-wmf"/>
  <Override PartName="/ppt/media/suction.wav" ContentType="audio/x-wav"/>
  <Override PartName="/ppt/media/compres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C26-A4C6-477B-A62F-2F8A9C0B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BE4-E6A5-4C4D-B112-5FCD9B61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4438-FCE7-4BE2-AB85-0E1F0163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6B3F-96B1-4F59-86FD-6BC29C7F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DD09-04F2-4C13-A412-0116D292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8CA7-E139-42FD-814B-A13F6C1E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D482-3590-4AA5-91DB-093CCB9E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0F2A-F12F-4522-9A98-E39E24F7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DB92-917D-42A2-A8CC-BDCB78B5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AA0D-BDAE-4CBB-B39C-0E645521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4005-B801-41D9-A95C-28D12CB3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18F-E9A5-4A02-97B6-EAB59418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F380-7595-4273-9AE8-A56F88DC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FF0D-6590-4967-A369-9797800B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FB19-E887-44BF-B525-8FD337AD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9F69-0225-437A-A8DC-0BB809F1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D2AB-C2A0-4185-902D-DB513FD5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DF1-4DF9-4502-9114-16F6CBA5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9B9-5ED6-40A7-8F11-65FCB271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155-706F-46B8-9A43-D4DF309F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EA0-6D30-40CB-9F5F-96BC16F5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725-3A20-4DE4-8DE7-CB7A68B5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4E6-115A-4C46-A8D7-BD958E13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7E6-A889-4900-858F-AD64DA67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616A-1130-4CA9-8A8F-7DDC8B781C6D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BF90-9182-48D2-B043-9769AE9C4722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larm_1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NNTON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EEPCHP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suction.wav"/><Relationship Id="rId4" Type="http://schemas.openxmlformats.org/officeDocument/2006/relationships/audio" Target="../media/CLICKER(1)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suction.wav"/><Relationship Id="rId3" Type="http://schemas.openxmlformats.org/officeDocument/2006/relationships/audio" Target="../media/compress.wav"/><Relationship Id="rId4" Type="http://schemas.openxmlformats.org/officeDocument/2006/relationships/audio" Target="../media/compress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55640" y="2838600"/>
            <a:ext cx="7920000" cy="21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38160">
                  <a:solidFill>
                    <a:srgbClr val="ffffcc"/>
                  </a:solidFill>
                  <a:miter/>
                </a:ln>
                <a:gradFill rotWithShape="0">
                  <a:gsLst>
                    <a:gs pos="0">
                      <a:srgbClr val="0593bf"/>
                    </a:gs>
                    <a:gs pos="50000">
                      <a:srgbClr val="00ffff"/>
                    </a:gs>
                    <a:gs pos="100000">
                      <a:srgbClr val="0593bf"/>
                    </a:gs>
                  </a:gsLst>
                  <a:lin ang="8100000"/>
                </a:gradFill>
                <a:effectLst>
                  <a:outerShdw dist="660360" dir="5334402" blurRad="0" rotWithShape="0">
                    <a:srgbClr val="000000">
                      <a:alpha val="70000"/>
                    </a:srgbClr>
                  </a:outerShdw>
                </a:effectLst>
                <a:latin typeface="Hesham Gornata"/>
              </a:rPr>
              <a:t>الآلات البسيطة</a:t>
            </a:r>
            <a:endParaRPr b="1" lang="en-US" sz="6600" spc="1" strike="noStrike">
              <a:ln w="38160">
                <a:solidFill>
                  <a:srgbClr val="ffffcc"/>
                </a:solidFill>
                <a:miter/>
              </a:ln>
              <a:gradFill rotWithShape="0">
                <a:gsLst>
                  <a:gs pos="0">
                    <a:srgbClr val="0593bf"/>
                  </a:gs>
                  <a:gs pos="50000">
                    <a:srgbClr val="00ffff"/>
                  </a:gs>
                  <a:gs pos="100000">
                    <a:srgbClr val="0593bf"/>
                  </a:gs>
                </a:gsLst>
                <a:lin ang="8100000"/>
              </a:gradFill>
              <a:effectLst>
                <a:outerShdw dist="660360" dir="5334402" blurRad="0" rotWithShape="0">
                  <a:srgbClr val="000000">
                    <a:alpha val="70000"/>
                  </a:srgbClr>
                </a:outerShdw>
              </a:effectLst>
              <a:latin typeface="Hesham Gornata"/>
              <a:ea typeface="Hesham Gornat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larm_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2421000"/>
            <a:ext cx="73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يَصْعُبُ عَلَيَّ أَحْياناً تَحْريكُ الأَشْياءِ؛ لِذَا، فَقَدْ أحْتاجُ إِلى شَيْءٍ يُسَاعِدُني عَلَى تَحْريكِها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NNT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76360" y="2060640"/>
            <a:ext cx="640872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الآلَةُ الْبَسيطَةُ أَداةٌ تُسَهِّلُ تَحْريكَ الأَشْياءِ. وَتُساعِدُ النّاسَ عَلى إِنْجازِ بَعْضِ الأَعْمالِ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50920" y="4221000"/>
            <a:ext cx="458316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4360" y="2006280"/>
            <a:ext cx="7488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َلْبَكَرَةُ عَجَلَةٌ يُحَرِّكُهَا حَبْلٌ. وَهِيَ تُساعِدُ عَلى رَفْعِ الأَشْياءِ الثَّقيلَةِ. كَمَا تُساعِدُ عَلى حَمْلِ الأَشْياءِ إلى أَماكِن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46600" y="1506600"/>
            <a:ext cx="596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ff"/>
                </a:solidFill>
                <a:latin typeface="Times New Roman"/>
              </a:rPr>
              <a:t>الَبْكَرَةَ آلَةٌ بَسيطَةٌ</a:t>
            </a:r>
            <a:r>
              <a:rPr b="1" lang="ar-SA" sz="54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664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700360" y="907920"/>
            <a:ext cx="4392720" cy="1008360"/>
          </a:xfrm>
          <a:custGeom>
            <a:avLst/>
            <a:gdLst>
              <a:gd name="textAreaLeft" fmla="*/ 118800 w 4392720"/>
              <a:gd name="textAreaRight" fmla="*/ 4273920 w 4392720"/>
              <a:gd name="textAreaTop" fmla="*/ 118800 h 1008360"/>
              <a:gd name="textAreaBottom" fmla="*/ 889560 h 1008360"/>
            </a:gdLst>
            <a:ahLst/>
            <a:rect l="textAreaLeft" t="textAreaTop" r="textAreaRight" b="textAreaBottom"/>
            <a:pathLst>
              <a:path w="9407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0470" y="21600"/>
                </a:lnTo>
                <a:arcTo wR="3600" hR="3600" stAng="10800000" swAng="5400000"/>
                <a:lnTo>
                  <a:pt x="9407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0593bf"/>
              </a:gs>
              <a:gs pos="100000">
                <a:srgbClr val="00ff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ff"/>
                </a:solidFill>
                <a:latin typeface="Times New Roman"/>
              </a:rPr>
              <a:t>الرَّوافِعُ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637000"/>
            <a:ext cx="802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َلرّافِعَةُ آلَةٌ بَسيطَةٌ. وَهِيَ قَضيبٌ يَرتَكِزُ عَلَى نُقْطَةٍ مُعَيَّنَةٍ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4149720"/>
            <a:ext cx="4572000" cy="2116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96000" y="4076640"/>
            <a:ext cx="25812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ER(1)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27640" y="907920"/>
            <a:ext cx="3744720" cy="1008360"/>
          </a:xfrm>
          <a:custGeom>
            <a:avLst/>
            <a:gdLst>
              <a:gd name="textAreaLeft" fmla="*/ 118800 w 3744720"/>
              <a:gd name="textAreaRight" fmla="*/ 3625920 w 3744720"/>
              <a:gd name="textAreaTop" fmla="*/ 118800 h 1008360"/>
              <a:gd name="textAreaBottom" fmla="*/ 889560 h 1008360"/>
            </a:gdLst>
            <a:ahLst/>
            <a:rect l="textAreaLeft" t="textAreaTop" r="textAreaRight" b="textAreaBottom"/>
            <a:pathLst>
              <a:path w="801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6594" y="21600"/>
                </a:lnTo>
                <a:arcTo wR="3600" hR="3600" stAng="10800000" swAng="5400000"/>
                <a:lnTo>
                  <a:pt x="80194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0593bf"/>
              </a:gs>
              <a:gs pos="100000">
                <a:srgbClr val="00ff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imes New Roman"/>
              </a:rPr>
              <a:t>اَلسَّطْحُ الْمائِل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2708280"/>
            <a:ext cx="853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أَيْضاً آلَةٌ بَسيطَةٌ. يُسْتَخْدَمُ السَّطْحُ الْمائِلُ لِتَحْريكِ الأَشْياءِ إِلى الأَعْلى أوَ إِلى الأَسْفَلِ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يُسْتَخْدَمُ السَّطْحُ الْمائِلُ أَحْياناً لِتَحْريكِ أَشْياءٍ يَصْعُبُ تَحْريكُها إلى الأَعْلَى أو عَلى السُّلَّمِ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24638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10:25:04Z</dcterms:modified>
  <cp:revision>37</cp:revision>
  <dc:subject/>
  <dc:title>PowerPoint Presentation</dc:title>
</cp:coreProperties>
</file>